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158-4F0C-4DEA-9EF4-7F6821F5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C02-6027-4DE0-9427-1A6FA8D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54D-9CDD-479B-9CD0-EA296319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2AE-6E9D-4A3C-9F65-8680E307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6336-ED9E-4418-9C6A-7A50FF15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9A4-1ABD-414A-BDE2-4265CAB2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20DF-ADDE-4800-AED1-2AC9F28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42F-157C-42C5-85AE-F108190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0CA4-0FF0-4B35-A06E-271F76C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AFC-D774-4CB2-8431-3881EB3D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6C7F-1ADF-4E1D-AD9C-DEE2D46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F10-4EAD-447A-B438-0117CFD9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C6E2-2164-4D5C-83E2-44D02CC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C124-5837-4AF5-BC9B-895F7CA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71C-5657-4108-8149-3D2C8628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0991-8A4F-46F3-80B7-5DD4BF27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478-04B9-49B1-8E2F-85A7885C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396-955E-4E34-87ED-0132804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32A-6062-436D-BA33-89317DFD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861-09A6-458A-A706-B0E11C9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B58-C869-482D-A231-4B98E837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11F-7136-4C2F-9EA1-14E6DC7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80B-F74D-44DD-B567-59AD58F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CBD-AC91-44A1-88DE-20E7C2B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47F3-4CBD-4DFE-9911-42195CF2BB6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D3A-5C1C-497E-91F0-BC23AF911A0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Pers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arning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ha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less dominate than my right brain is 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y Intelligence type is Physical Awarness Intelligence that means tha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Am very coordinat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develop and contr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figure out how to perform a move or tas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earns best through touching or saying it alou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so you can now how to lear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I can do this when I need hel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 that means that I am Kinesthetic: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technique is Abstract Sequential that means that I creative and imaginative, neat, and order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4:21Z</dcterms:created>
  <dc:creator>dharan albuoy</dc:creator>
  <dc:description/>
  <dc:language>en-US</dc:language>
  <cp:lastModifiedBy>dharan albuoy</cp:lastModifiedBy>
  <dcterms:modified xsi:type="dcterms:W3CDTF">2010-10-26T13:54:31Z</dcterms:modified>
  <cp:revision>4</cp:revision>
  <dc:subject/>
  <dc:title>My Personal Learning Profile by</dc:title>
</cp:coreProperties>
</file>